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png" ContentType="image/png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0.jpeg" ContentType="image/jpeg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2A08-55BC-4001-851E-4F5E0DDC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878F-80DD-4C17-869B-FA71E486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C92-6E7D-4976-AFF0-37C976432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0AC-8EB3-4EF6-8E14-034CE6942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11D9-A723-4FD6-BB4F-8DBAFD58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CC5D-099D-493D-9D20-3BC021A9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4537-A98F-479D-8223-48EAA5DC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AEB-81AD-40EC-BAA0-20C438BB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B09-F0DF-4ACF-A18D-851EF09A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734F-F4C3-4951-8F57-186AF67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016-BDEA-448E-931D-9AF69780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38D-5D06-4A1C-B037-032BC37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9E7F-3665-4324-A579-4CAF17353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mparison of South Korea &amp;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IE development model re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ks-lgflag"/>
          <p:cNvPicPr/>
          <p:nvPr/>
        </p:nvPicPr>
        <p:blipFill>
          <a:blip r:embed="rId1"/>
          <a:stretch/>
        </p:blipFill>
        <p:spPr>
          <a:xfrm>
            <a:off x="990720" y="228600"/>
            <a:ext cx="2895480" cy="1930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tw-lgflag"/>
          <p:cNvPicPr/>
          <p:nvPr/>
        </p:nvPicPr>
        <p:blipFill>
          <a:blip r:embed="rId2"/>
          <a:stretch/>
        </p:blipFill>
        <p:spPr>
          <a:xfrm>
            <a:off x="6019920" y="4572000"/>
            <a:ext cx="286704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nancial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 owned and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l 5 commercial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cluding the central bank (Bank of Ko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l 6 special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 of the 3 non-bank financial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3886200" y="4572000"/>
          <a:ext cx="28195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572000"/>
                    <a:ext cx="28195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nancial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oreign Capital Inducement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rol private sector’s access to foreign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siness activities were directed by th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rokdollr"/>
          <p:cNvPicPr/>
          <p:nvPr/>
        </p:nvPicPr>
        <p:blipFill>
          <a:blip r:embed="rId1"/>
          <a:stretch/>
        </p:blipFill>
        <p:spPr>
          <a:xfrm>
            <a:off x="2666880" y="3809880"/>
            <a:ext cx="381024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Growth-first 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w interest rate to induce firms to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avored large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irms compliant with state policies and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cessive demand for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flation favored large deb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flation discouraged domestic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liance on foreign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ulnerable to external sh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eavy Chemical Industr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CI plan in 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avy and capital-intensive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engthening of state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oundation for the emergence of cha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mbined net sales of the top 10 cha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7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.1% of G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7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0.1% of G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8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5.7% of GN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5257800" y="4572000"/>
          <a:ext cx="26668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572000"/>
                    <a:ext cx="26668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outh Korea’s foreign deb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96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57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llion US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7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0.5 billion US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 preferred foreign borrowing over foreign direct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intain domestic ownership of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 1990s private sector borrowed heav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9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6.9 billion US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99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54.4 billion US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op chae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bt to equity ratio of top chae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822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aiwan’s financial s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trol inflation and maintain 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entral Bank of China ultra-conser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 controlled financi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ationalized the bank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ivate commercial banks were not allowed to operate until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1.3% of the assets of all financial institutions were in government-owned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sult of financi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aditional family networks became the major source of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mited the size of Taiwan’s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mall and medium-sized fi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mited the expansion of 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imited the debt-equity ratio of 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st large, capital-intensive, technology-intensive industries were state-ow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outh Korea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iwa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and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outh Korea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,9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iwa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2,26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638680" y="152280"/>
            <a:ext cx="3338640" cy="358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taiwanst"/>
          <p:cNvPicPr/>
          <p:nvPr/>
        </p:nvPicPr>
        <p:blipFill>
          <a:blip r:embed="rId2"/>
          <a:stretch/>
        </p:blipFill>
        <p:spPr>
          <a:xfrm>
            <a:off x="5638680" y="3733920"/>
            <a:ext cx="33530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quity-first versus growth-fi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’s anti-inflation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ncouraged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 avoided concentration of economic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 promoted equitable distribution of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overnment’s reluctant to use preferential financial treatment to large 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5657760" y="3800520"/>
          <a:ext cx="34862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7760" y="3800520"/>
                    <a:ext cx="3486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outh Korea and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urchasing power parity GDP of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outh Kore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$1.64 trillion (12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iwa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$0.92 trillion (20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DP growth rate 2010-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outh Korea: 6.3%, 3.6%,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iwan: 10.8%, 4.1%, 1.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IE develop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ingapore, Hong Kong, Taiwan, and 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port-oriented 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te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te involvement in economic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igh investment in human capital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IE development model de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uth Korea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gative growth for the 1st time in 2 dec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nemployment rate rose from 3% to 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er capita GNP almost shrank by ha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aiwan in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conomic growth slowed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ill rob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s the NIE development model in cri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outh Korea and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becomes state’s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mmitment to private property &amp;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overnment’s strategic industri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te agencies formulate and implement strategic policies (e.g. Japan’s MI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und macroeconomic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reaucratic autonomy from interes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outh Korea and Taiw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litary strongman rule from 1960s to 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rk Chung Hee (1962-7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iang Kai-Shek (1945-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arkchh1"/>
          <p:cNvPicPr/>
          <p:nvPr/>
        </p:nvPicPr>
        <p:blipFill>
          <a:blip r:embed="rId1"/>
          <a:stretch/>
        </p:blipFill>
        <p:spPr>
          <a:xfrm>
            <a:off x="6095880" y="2286000"/>
            <a:ext cx="15163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5715000" y="4648320"/>
            <a:ext cx="3048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ark Chung H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perience with Japan’s wartime economic management in Northeast 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conomic Plann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nistry of Trade and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nistry of Fi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mport substitution =&gt; expor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ormalization with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g</cp:lastModifiedBy>
  <dcterms:modified xsi:type="dcterms:W3CDTF">2013-11-05T19:47:49Z</dcterms:modified>
  <cp:revision>5</cp:revision>
  <dc:subject/>
  <dc:title>Comparison of South Korea &amp; Taiwan</dc:title>
</cp:coreProperties>
</file>